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13.wmf" ContentType="image/x-wmf"/>
  <Override PartName="/ppt/media/image5.png" ContentType="image/png"/>
  <Override PartName="/ppt/media/image9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8.png" ContentType="image/png"/>
  <Override PartName="/ppt/media/image14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BC37-6675-451D-8591-B98A16DF0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0157-B73E-48F0-820D-15D5D204F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06FF-2C3D-4189-994D-DF4E6ED72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9414-6EBC-489D-9A29-728ED6800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AC5E-F96E-4C20-85F2-FA4CF9F4D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76BA-1901-464B-A0C0-CF845DAEA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AA96-76E9-4061-A0C9-828057418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F67E-B4B5-4E6A-BA3B-137FD6953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39DA-F782-4719-AE91-E72FC97DC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0C4F-604D-4367-9510-B133072B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4037-DBC7-49B7-9757-2D3FACF5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1377-7A19-4BD3-8828-206C0451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D996F-DD54-4EC6-AC8E-894EFD8A32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opyrightauthority.com/copyright-symbol/" TargetMode="External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teslj.org/links/ESL/Listening/Podcasts/" TargetMode="External"/><Relationship Id="rId3" Type="http://schemas.openxmlformats.org/officeDocument/2006/relationships/hyperlink" Target="http://iteslj.org/links/ESL/Listening/Podcasts/" TargetMode="External"/><Relationship Id="rId4" Type="http://schemas.openxmlformats.org/officeDocument/2006/relationships/hyperlink" Target="http://a4esl.org/p/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497400" y="779400"/>
            <a:ext cx="4762440" cy="5448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85960" y="5272200"/>
            <a:ext cx="2803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85960" y="5272200"/>
            <a:ext cx="2341440" cy="876960"/>
          </a:xfrm>
          <a:prstGeom prst="rect">
            <a:avLst/>
          </a:prstGeom>
          <a:solidFill>
            <a:srgbClr val="a2de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c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you ready for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885960" y="5272200"/>
            <a:ext cx="2341440" cy="876960"/>
          </a:xfrm>
          <a:prstGeom prst="rect">
            <a:avLst/>
          </a:prstGeom>
          <a:solidFill>
            <a:srgbClr val="e5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c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can you fi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391520" y="5234040"/>
            <a:ext cx="868320" cy="9936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rcRect l="19832" t="0" r="20154" b="0"/>
          <a:stretch/>
        </p:blipFill>
        <p:spPr>
          <a:xfrm>
            <a:off x="1000080" y="2890800"/>
            <a:ext cx="7105680" cy="11145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224240" y="446580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manythings.org/song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885960" y="5272200"/>
            <a:ext cx="2341440" cy="876960"/>
          </a:xfrm>
          <a:prstGeom prst="rect">
            <a:avLst/>
          </a:prstGeom>
          <a:solidFill>
            <a:srgbClr val="e5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c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can you fi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391520" y="5234040"/>
            <a:ext cx="868320" cy="9936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766960" y="3198960"/>
            <a:ext cx="5372280" cy="9144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302000" y="4465800"/>
            <a:ext cx="38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eslpod.com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885960" y="5272200"/>
            <a:ext cx="2341440" cy="876960"/>
          </a:xfrm>
          <a:prstGeom prst="rect">
            <a:avLst/>
          </a:prstGeom>
          <a:solidFill>
            <a:srgbClr val="e5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c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can you fi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391520" y="5234040"/>
            <a:ext cx="868320" cy="9936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16160" y="303840"/>
            <a:ext cx="6275160" cy="39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mediate Conversations - Got a new compu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didn't you get a desktop compu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: Bill Pellowe and Robert Char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adcast date: Tuesday, March 7th,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'll hear this intermediate-level conversation on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, you'll hear several short practice dialogs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s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ll: I got a new computer yesterday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ert: You got a new computer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ll: Yes, a new notebook computer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ert: Why didn't you get a desktop computer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56400" y="4543560"/>
            <a:ext cx="43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eltpodcast.com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031080" y="3697200"/>
            <a:ext cx="210492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885960" y="5272200"/>
            <a:ext cx="2341440" cy="876960"/>
          </a:xfrm>
          <a:prstGeom prst="rect">
            <a:avLst/>
          </a:prstGeom>
          <a:solidFill>
            <a:srgbClr val="e5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c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can you fi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391520" y="5234040"/>
            <a:ext cx="868320" cy="9936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805120" y="2928960"/>
            <a:ext cx="5419800" cy="12286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377320" y="4503600"/>
            <a:ext cx="305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esl.libsyn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885960" y="433440"/>
            <a:ext cx="468468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885960" y="5272200"/>
            <a:ext cx="2341440" cy="876960"/>
          </a:xfrm>
          <a:prstGeom prst="rect">
            <a:avLst/>
          </a:prstGeom>
          <a:solidFill>
            <a:srgbClr val="e5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c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can you fi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391520" y="5234040"/>
            <a:ext cx="868320" cy="9936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881520" y="3160800"/>
            <a:ext cx="4324320" cy="9903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882240" y="4543560"/>
            <a:ext cx="42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mthomsen1776.podomatic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885960" y="5272200"/>
            <a:ext cx="2341440" cy="876960"/>
          </a:xfrm>
          <a:prstGeom prst="rect">
            <a:avLst/>
          </a:prstGeom>
          <a:solidFill>
            <a:srgbClr val="e5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c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can you fi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391520" y="5234040"/>
            <a:ext cx="868320" cy="9936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417920" y="587520"/>
            <a:ext cx="3857760" cy="39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885960" y="5272200"/>
            <a:ext cx="2341440" cy="876960"/>
          </a:xfrm>
          <a:prstGeom prst="rect">
            <a:avLst/>
          </a:prstGeom>
          <a:solidFill>
            <a:srgbClr val="e5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c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can you fi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391520" y="5234040"/>
            <a:ext cx="868320" cy="9936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149720" y="779400"/>
            <a:ext cx="4438800" cy="14097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3995640" y="2238480"/>
            <a:ext cx="451512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885960" y="5272200"/>
            <a:ext cx="2341440" cy="876960"/>
          </a:xfrm>
          <a:prstGeom prst="rect">
            <a:avLst/>
          </a:prstGeom>
          <a:solidFill>
            <a:srgbClr val="e5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c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can you fi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391520" y="5234040"/>
            <a:ext cx="868320" cy="993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56080" y="1009800"/>
            <a:ext cx="42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can you do in the classroo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57440" y="1662120"/>
            <a:ext cx="526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can your students do outside of clas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453360" y="2506680"/>
            <a:ext cx="181584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885960" y="5272200"/>
            <a:ext cx="2341440" cy="876960"/>
          </a:xfrm>
          <a:prstGeom prst="rect">
            <a:avLst/>
          </a:prstGeom>
          <a:solidFill>
            <a:srgbClr val="fca2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c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on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391520" y="5234040"/>
            <a:ext cx="868320" cy="99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885960" y="5272200"/>
            <a:ext cx="2341440" cy="876960"/>
          </a:xfrm>
          <a:prstGeom prst="rect">
            <a:avLst/>
          </a:prstGeom>
          <a:solidFill>
            <a:srgbClr val="baf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c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391520" y="5234040"/>
            <a:ext cx="868320" cy="9936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885960" y="5272200"/>
            <a:ext cx="2341440" cy="876960"/>
          </a:xfrm>
          <a:prstGeom prst="rect">
            <a:avLst/>
          </a:prstGeom>
          <a:solidFill>
            <a:srgbClr val="f3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c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echnical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85960" y="5272200"/>
            <a:ext cx="2341440" cy="876960"/>
          </a:xfrm>
          <a:prstGeom prst="rect">
            <a:avLst/>
          </a:prstGeom>
          <a:solidFill>
            <a:srgbClr val="baf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c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391520" y="5234040"/>
            <a:ext cx="868320" cy="99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885960" y="5272200"/>
            <a:ext cx="2341440" cy="876960"/>
          </a:xfrm>
          <a:prstGeom prst="rect">
            <a:avLst/>
          </a:prstGeom>
          <a:solidFill>
            <a:srgbClr val="baf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c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391520" y="5234040"/>
            <a:ext cx="868320" cy="9936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885960" y="5272200"/>
            <a:ext cx="2341440" cy="876960"/>
          </a:xfrm>
          <a:prstGeom prst="rect">
            <a:avLst/>
          </a:prstGeom>
          <a:solidFill>
            <a:srgbClr val="f3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c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echnical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Globalmediapro HPM-102 Stereo Headphones with Microphone Globalmediapro HPM-102 Stereo Headphone with Microphone"/>
          <p:cNvPicPr/>
          <p:nvPr/>
        </p:nvPicPr>
        <p:blipFill>
          <a:blip r:embed="rId2"/>
          <a:stretch/>
        </p:blipFill>
        <p:spPr>
          <a:xfrm>
            <a:off x="6953400" y="3044880"/>
            <a:ext cx="1206360" cy="19209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4687920" y="433440"/>
            <a:ext cx="3647880" cy="23605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rcRect l="0" t="0" r="0" b="22748"/>
          <a:stretch/>
        </p:blipFill>
        <p:spPr>
          <a:xfrm>
            <a:off x="4687920" y="3083040"/>
            <a:ext cx="201924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885960" y="5272200"/>
            <a:ext cx="2341440" cy="876960"/>
          </a:xfrm>
          <a:prstGeom prst="rect">
            <a:avLst/>
          </a:prstGeom>
          <a:solidFill>
            <a:srgbClr val="baf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c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391520" y="5234040"/>
            <a:ext cx="868320" cy="9936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885960" y="5272200"/>
            <a:ext cx="2341440" cy="876960"/>
          </a:xfrm>
          <a:prstGeom prst="rect">
            <a:avLst/>
          </a:prstGeom>
          <a:solidFill>
            <a:srgbClr val="f3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c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echnical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70040" y="2546280"/>
            <a:ext cx="1842840" cy="998640"/>
          </a:xfrm>
          <a:prstGeom prst="rect">
            <a:avLst/>
          </a:prstGeom>
          <a:solidFill>
            <a:srgbClr val="c7fd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73360" y="3851280"/>
            <a:ext cx="1843200" cy="998640"/>
          </a:xfrm>
          <a:prstGeom prst="rect">
            <a:avLst/>
          </a:prstGeom>
          <a:solidFill>
            <a:srgbClr val="c7fd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49680" y="1393920"/>
            <a:ext cx="1843200" cy="998280"/>
          </a:xfrm>
          <a:prstGeom prst="rect">
            <a:avLst/>
          </a:prstGeom>
          <a:solidFill>
            <a:srgbClr val="c7fd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377040" y="2584440"/>
            <a:ext cx="1843200" cy="998640"/>
          </a:xfrm>
          <a:prstGeom prst="rect">
            <a:avLst/>
          </a:prstGeom>
          <a:solidFill>
            <a:srgbClr val="c7fd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85960" y="2698920"/>
            <a:ext cx="161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your pod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649680" y="400536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rd onto the comp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765600" y="1432080"/>
            <a:ext cx="165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rd onto Digital Voice Rec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57440" y="2506680"/>
            <a:ext cx="2151360" cy="1266840"/>
          </a:xfrm>
          <a:prstGeom prst="flowChartDecision">
            <a:avLst/>
          </a:prstGeom>
          <a:solidFill>
            <a:srgbClr val="d8fd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033800" y="2814480"/>
            <a:ext cx="99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t to M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531120" y="2738520"/>
            <a:ext cx="161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 on 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690640" y="32367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690640" y="3121200"/>
            <a:ext cx="574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686560" y="3160800"/>
            <a:ext cx="6141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391520" y="5234040"/>
            <a:ext cx="868320" cy="9936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885960" y="5272200"/>
            <a:ext cx="2341440" cy="876960"/>
          </a:xfrm>
          <a:prstGeom prst="rect">
            <a:avLst/>
          </a:prstGeom>
          <a:solidFill>
            <a:srgbClr val="f9c4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c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ution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646600" y="433440"/>
            <a:ext cx="2355840" cy="23810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4498920" y="35942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4226040" y="3313080"/>
            <a:ext cx="3940200" cy="13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885960" y="5272200"/>
            <a:ext cx="2341440" cy="876960"/>
          </a:xfrm>
          <a:prstGeom prst="rect">
            <a:avLst/>
          </a:prstGeom>
          <a:solidFill>
            <a:srgbClr val="fca2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c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on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7391520" y="5234040"/>
            <a:ext cx="868320" cy="9936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6453360" y="2506680"/>
            <a:ext cx="1815840" cy="1413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995640" y="131616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kind of content could you crea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10160" y="1969920"/>
            <a:ext cx="41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could your students crea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391520" y="5234040"/>
            <a:ext cx="868320" cy="9936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885960" y="5272200"/>
            <a:ext cx="2341440" cy="876960"/>
          </a:xfrm>
          <a:prstGeom prst="rect">
            <a:avLst/>
          </a:prstGeom>
          <a:solidFill>
            <a:srgbClr val="a2de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c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are ready for 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85960" y="5272200"/>
            <a:ext cx="2341440" cy="876960"/>
          </a:xfrm>
          <a:prstGeom prst="rect">
            <a:avLst/>
          </a:prstGeom>
          <a:solidFill>
            <a:srgbClr val="baf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c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391520" y="5234040"/>
            <a:ext cx="868320" cy="993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073320" y="1201680"/>
            <a:ext cx="2533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Verdana"/>
              </a:rPr>
              <a:t>podc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44640" y="2354400"/>
            <a:ext cx="2533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Verdana"/>
              </a:rPr>
              <a:t>p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70640" y="2354400"/>
            <a:ext cx="2533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Verdana"/>
              </a:rPr>
              <a:t>c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40240" y="4119480"/>
            <a:ext cx="311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Verdana"/>
              </a:rPr>
              <a:t>broadc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08200" y="4081320"/>
            <a:ext cx="253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Verdana"/>
              </a:rPr>
              <a:t>Ip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885960" y="5272200"/>
            <a:ext cx="2341440" cy="876960"/>
          </a:xfrm>
          <a:prstGeom prst="rect">
            <a:avLst/>
          </a:prstGeom>
          <a:solidFill>
            <a:srgbClr val="baf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c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391520" y="5234040"/>
            <a:ext cx="868320" cy="993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08200" y="471600"/>
            <a:ext cx="2957400" cy="42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eptember 24, 2004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Verdana"/>
              </a:rPr>
              <a:t>September 30, 2004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Verdana"/>
              </a:rPr>
              <a:t>October 3, 200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Verdana"/>
              </a:rPr>
              <a:t>By October 18, 200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Verdana"/>
              </a:rPr>
              <a:t>October, 200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97400" y="5195880"/>
            <a:ext cx="38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hat about to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94280" y="509760"/>
            <a:ext cx="2919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48360" y="663480"/>
            <a:ext cx="291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02080" y="817560"/>
            <a:ext cx="291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94280" y="471600"/>
            <a:ext cx="2919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33840" y="471600"/>
            <a:ext cx="418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 hits for “podcast” on Googl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3080" y="135576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000000"/>
                </a:solidFill>
                <a:latin typeface="Arial"/>
              </a:rPr>
              <a:t>5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10880" y="2314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000000"/>
                </a:solidFill>
                <a:latin typeface="Arial"/>
              </a:rPr>
              <a:t>2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09800" y="3287880"/>
            <a:ext cx="170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000000"/>
                </a:solidFill>
                <a:latin typeface="Arial"/>
              </a:rPr>
              <a:t>over 10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0560" y="4351320"/>
            <a:ext cx="22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000000"/>
                </a:solidFill>
                <a:latin typeface="Arial"/>
              </a:rPr>
              <a:t>over 100,00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91520" y="573732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22,00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391520" y="5234040"/>
            <a:ext cx="868320" cy="993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803760" y="433440"/>
            <a:ext cx="1535040" cy="730080"/>
          </a:xfrm>
          <a:prstGeom prst="rect">
            <a:avLst/>
          </a:prstGeom>
          <a:solidFill>
            <a:srgbClr val="d8fd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992920" y="3774960"/>
            <a:ext cx="1535040" cy="730440"/>
          </a:xfrm>
          <a:prstGeom prst="rect">
            <a:avLst/>
          </a:prstGeom>
          <a:solidFill>
            <a:srgbClr val="d8fd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38280" y="3736800"/>
            <a:ext cx="1535040" cy="730440"/>
          </a:xfrm>
          <a:prstGeom prst="rect">
            <a:avLst/>
          </a:prstGeom>
          <a:solidFill>
            <a:srgbClr val="d8fd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03760" y="3736800"/>
            <a:ext cx="1535040" cy="730440"/>
          </a:xfrm>
          <a:prstGeom prst="rect">
            <a:avLst/>
          </a:prstGeom>
          <a:solidFill>
            <a:srgbClr val="d8fd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03760" y="2122560"/>
            <a:ext cx="1535040" cy="730080"/>
          </a:xfrm>
          <a:prstGeom prst="rect">
            <a:avLst/>
          </a:prstGeom>
          <a:solidFill>
            <a:srgbClr val="d8fd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23760" y="2162160"/>
            <a:ext cx="1535400" cy="730440"/>
          </a:xfrm>
          <a:prstGeom prst="rect">
            <a:avLst/>
          </a:prstGeom>
          <a:solidFill>
            <a:srgbClr val="d8fd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23000" y="1201680"/>
            <a:ext cx="1535040" cy="730440"/>
          </a:xfrm>
          <a:prstGeom prst="rect">
            <a:avLst/>
          </a:prstGeom>
          <a:solidFill>
            <a:srgbClr val="d8fd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956120" y="1278000"/>
            <a:ext cx="1652760" cy="230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494320" y="1778040"/>
            <a:ext cx="1036800" cy="614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0" y="1278000"/>
            <a:ext cx="0" cy="691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538280" y="1239840"/>
            <a:ext cx="2419200" cy="766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799320" y="2084400"/>
            <a:ext cx="652320" cy="1498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0" y="3006720"/>
            <a:ext cx="2073240" cy="576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0" y="300672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2458800" y="3006720"/>
            <a:ext cx="2112840" cy="576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19680" y="549360"/>
            <a:ext cx="130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ed on the 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1880" y="279360"/>
            <a:ext cx="1535040" cy="730440"/>
          </a:xfrm>
          <a:prstGeom prst="rect">
            <a:avLst/>
          </a:prstGeom>
          <a:solidFill>
            <a:srgbClr val="d8fd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28760" y="549360"/>
            <a:ext cx="1498680" cy="114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01480" y="433440"/>
            <a:ext cx="138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16000" y="2238480"/>
            <a:ext cx="134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en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799320" y="1201680"/>
            <a:ext cx="138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ed t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dcat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81520" y="2200320"/>
            <a:ext cx="168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load to comp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68320" y="3774960"/>
            <a:ext cx="142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e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81520" y="3774960"/>
            <a:ext cx="138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rn to a 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70680" y="3851280"/>
            <a:ext cx="138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 onto MP3 p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3760" y="433440"/>
            <a:ext cx="1535040" cy="730080"/>
          </a:xfrm>
          <a:prstGeom prst="rect">
            <a:avLst/>
          </a:prstGeom>
          <a:solidFill>
            <a:srgbClr val="f3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03760" y="2122560"/>
            <a:ext cx="1535040" cy="730080"/>
          </a:xfrm>
          <a:prstGeom prst="rect">
            <a:avLst/>
          </a:prstGeom>
          <a:solidFill>
            <a:srgbClr val="f3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03760" y="3736800"/>
            <a:ext cx="1535040" cy="730440"/>
          </a:xfrm>
          <a:prstGeom prst="rect">
            <a:avLst/>
          </a:prstGeom>
          <a:solidFill>
            <a:srgbClr val="f3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7480" y="471600"/>
            <a:ext cx="13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ed on the 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41920" y="2162160"/>
            <a:ext cx="168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load to comp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1520" y="3774960"/>
            <a:ext cx="138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rn to a 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28800" y="4773600"/>
            <a:ext cx="376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at is your simplest op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85960" y="5272200"/>
            <a:ext cx="2341440" cy="876960"/>
          </a:xfrm>
          <a:prstGeom prst="rect">
            <a:avLst/>
          </a:prstGeom>
          <a:solidFill>
            <a:srgbClr val="baf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c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885960" y="5272200"/>
            <a:ext cx="2341440" cy="876960"/>
          </a:xfrm>
          <a:prstGeom prst="rect">
            <a:avLst/>
          </a:prstGeom>
          <a:solidFill>
            <a:srgbClr val="baf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c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391520" y="5234040"/>
            <a:ext cx="868320" cy="9936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456080" y="1508040"/>
            <a:ext cx="379116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885960" y="5272200"/>
            <a:ext cx="2341440" cy="876960"/>
          </a:xfrm>
          <a:prstGeom prst="rect">
            <a:avLst/>
          </a:prstGeom>
          <a:solidFill>
            <a:srgbClr val="e5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c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can you fi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391520" y="5234040"/>
            <a:ext cx="868320" cy="99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885960" y="5272200"/>
            <a:ext cx="2341440" cy="876960"/>
          </a:xfrm>
          <a:prstGeom prst="rect">
            <a:avLst/>
          </a:prstGeom>
          <a:solidFill>
            <a:srgbClr val="e5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c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can you fi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391520" y="5234040"/>
            <a:ext cx="868320" cy="9936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760120" y="4427640"/>
            <a:ext cx="51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teslj.org/links/ESL/Listening/Podcasts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76640" y="3774960"/>
            <a:ext cx="214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a4esl.org/p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885960" y="5272200"/>
            <a:ext cx="2341440" cy="876960"/>
          </a:xfrm>
          <a:prstGeom prst="rect">
            <a:avLst/>
          </a:prstGeom>
          <a:solidFill>
            <a:srgbClr val="e5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c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can you fi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391520" y="5234040"/>
            <a:ext cx="868320" cy="9936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268280" y="2506680"/>
            <a:ext cx="6896160" cy="17906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840480" y="4503600"/>
            <a:ext cx="43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englishcaster.com/bobrob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5T23:10:44Z</dcterms:created>
  <dc:creator>MRC</dc:creator>
  <dc:description/>
  <dc:language>en-US</dc:language>
  <cp:lastModifiedBy>Sherry Rhodes</cp:lastModifiedBy>
  <dcterms:modified xsi:type="dcterms:W3CDTF">2006-04-29T09:22:02Z</dcterms:modified>
  <cp:revision>9</cp:revision>
  <dc:subject/>
  <dc:title>Slide 1</dc:title>
</cp:coreProperties>
</file>